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545-1431-47DE-8892-74977460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510-5BCC-4C40-90C7-1C545CFB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A26-1823-4118-B2B8-9EE9CF03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11F-1C46-4C82-B1D3-EF04FB94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8AE-B2A3-4AE1-9442-F9BC8DEF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907-027A-44AA-92A1-64544831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2B21-D147-4C5C-AB42-56E19B6D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D83-B83A-476E-A4EC-9A12219C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DDE9-FE59-441E-BAC3-A8B9AACA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D01-E8EC-4B9C-8D4B-C1BCD054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ADCB-21CA-4BA8-9438-CCDE179E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0A2-5039-40FF-9C17-0668970B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1548-111C-4F6F-BEE5-EBC6F0F2325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4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inion Ess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. Stimulate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echnological changes have occurred in the past fifty years? Which one has had the biggest effect on everyday lif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has it chang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ays of doing thi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What were the benefits and/or disadvantages of these chang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lse has been affected by this inven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feel about the change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. Brainst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0040" y="1643040"/>
          <a:ext cx="8215200" cy="2500200"/>
        </p:xfrm>
        <a:graphic>
          <a:graphicData uri="http://schemas.openxmlformats.org/drawingml/2006/table">
            <a:tbl>
              <a:tblPr/>
              <a:tblGrid>
                <a:gridCol w="2516040"/>
                <a:gridCol w="3341880"/>
                <a:gridCol w="235728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inion of a discovery/inv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3. Outl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8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pinion Ess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Opinion essa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formal piece of essay writing which presents the author’s point of view on a particular subject supported by reasons and examp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purp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writer is to convince the reader of a point of view on a controversial iss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Successful Opinion Essay Consists of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introduc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here the topic and the author’s opinion are stated clearl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main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bod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here viewpoints supported by reasons are presented in several paragraph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section has also the </a:t>
            </a: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opposing viewpoin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ich is proved to be unconvinc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conclus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here the main points of the essay are summarized and the author’s opinion is restated in other word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86) What Can Space Exploration Do for 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rcise 4-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hetorical Fo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.8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o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ory, anecdote, question, surprising f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kground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is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dy paragra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ing sentenc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cts, reasons, expla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er-argu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u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ate &amp; reinfor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86) What Can Space Exploration Do for 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rcise 4-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“refutation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k of argumen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gain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opin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your argument: do you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gr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isagr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the opin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71680" y="3286080"/>
          <a:ext cx="7929360" cy="1571760"/>
        </p:xfrm>
        <a:graphic>
          <a:graphicData uri="http://schemas.openxmlformats.org/drawingml/2006/table">
            <a:tbl>
              <a:tblPr/>
              <a:tblGrid>
                <a:gridCol w="2643120"/>
                <a:gridCol w="2643120"/>
                <a:gridCol w="264312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i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 is bad for childr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71680" y="5000760"/>
          <a:ext cx="7929360" cy="1554120"/>
        </p:xfrm>
        <a:graphic>
          <a:graphicData uri="http://schemas.openxmlformats.org/drawingml/2006/table">
            <a:tbl>
              <a:tblPr/>
              <a:tblGrid>
                <a:gridCol w="2643120"/>
                <a:gridCol w="2643120"/>
                <a:gridCol w="264312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ce exploration is important and should be founded by the govern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three-to-four paragraph essay about an important invention or discovery that has taken place in your life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and explain why you think it is beneficial or harmful to socie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81) Wireless: Bhutan’s Hills Are Alive with Sound of Cell Ph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none The north face of Mount Everest as seen from the path to the base camp in Tibet"/>
          <p:cNvPicPr/>
          <p:nvPr/>
        </p:nvPicPr>
        <p:blipFill>
          <a:blip r:embed="rId2"/>
          <a:stretch/>
        </p:blipFill>
        <p:spPr>
          <a:xfrm>
            <a:off x="928800" y="2786040"/>
            <a:ext cx="2928960" cy="1628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upload.wikimedia.org/wikipedia/commons/thumb/c/c3/Thimphu_view_080907.JPG/300px-Thimphu_view_080907.JPG"/>
          <p:cNvPicPr/>
          <p:nvPr/>
        </p:nvPicPr>
        <p:blipFill>
          <a:blip r:embed="rId3"/>
          <a:stretch/>
        </p:blipFill>
        <p:spPr>
          <a:xfrm>
            <a:off x="928800" y="450072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Thimphu"/>
          <p:cNvPicPr/>
          <p:nvPr/>
        </p:nvPicPr>
        <p:blipFill>
          <a:blip r:embed="rId4"/>
          <a:stretch/>
        </p:blipFill>
        <p:spPr>
          <a:xfrm>
            <a:off x="4714920" y="278604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23:58:07Z</dcterms:created>
  <dc:creator>Windows 使用者</dc:creator>
  <dc:description/>
  <dc:language>en-US</dc:language>
  <cp:lastModifiedBy>Windows 使用者</cp:lastModifiedBy>
  <dcterms:modified xsi:type="dcterms:W3CDTF">2009-04-23T15:42:00Z</dcterms:modified>
  <cp:revision>12</cp:revision>
  <dc:subject/>
  <dc:title>投影片 1</dc:title>
</cp:coreProperties>
</file>